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9000D-7A57-4E1C-8C68-7E4F5EE2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B835A-9090-4161-BA88-7C1DB342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0F13-B3C2-4DAF-AAC2-6C248642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0ECED-1928-426A-861C-D21A6026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E109-4AC6-4EC2-B435-05C9C374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C5DA-6E72-407F-A5C2-A6961660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51EE-EE14-4BA2-BCEA-DC503C6C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926B-3171-4E90-A3C1-DDDC3937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93D6-8BB7-4E4C-94F2-493F402B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756A-95CD-4343-9E39-3C99D518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D315-B7C0-4876-9B3A-0DA7E8B6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A5D7F-0C04-4535-816A-009F3C75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633F-B8A1-453B-9C66-2973CE46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4B33-51EA-494C-B025-BAA751F0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E07B-8D03-410E-85E1-3D3D88AD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EE0A-5098-4CC5-9C55-16F5EA13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5AA5-1C7E-4C26-85E8-6F879666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F8C39-0FD5-4FD7-B609-C8BEEA73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F6BA2-09E7-48E6-AF01-7EC9619F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9B072-B314-421B-9A59-ABE7458F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9A44D-BEFA-42C2-8C42-523DFC15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F071-2AA8-4EB2-9D57-44C9DFB9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EECFB-C808-47C0-8CEF-9DCFB264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1A977-F4F9-49EE-8BF1-7F3EBEC7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E776-5EF5-4523-82EE-2FCB489CFB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68F5-67D6-4B0D-A689-EB75DE7538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p73.pvamu.edu/bfactory-collaborators-map.gif&amp;imgrefurl=http://hp73.pvamu.edu/pvhep_babar.html&amp;h=906&amp;w=1703&amp;sz=186&amp;tbnid=WBHPwEvBnZ8J:&amp;tbnh=79&amp;tbnw=150&amp;hl=en&amp;start=75&amp;prev=/images%3Fq%3Dworld%2Bmap%26start%3D60%26svnum%3D10%26hl%3Den%26lr%3D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anaging a Long-Distance Team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mar Maldona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cision Mode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all 200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80988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del: Job Tra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04920" y="914400"/>
          <a:ext cx="8305560" cy="49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3055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del: Product 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0880" y="990720"/>
          <a:ext cx="8305920" cy="48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305920" cy="48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 Allocation - Init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28600" y="990720"/>
          <a:ext cx="8381880" cy="50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381880" cy="50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 Allocation -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8600" y="838080"/>
          <a:ext cx="8458200" cy="45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458200" cy="45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Defini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7524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are traveling long-distance from a team that you manage and need a method to keep track of available capacity to determine whether or not you can accept additional client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2767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800600"/>
            <a:ext cx="815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Variab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products you can assign to employees o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Maximize product out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standardized yet slight differences per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duct has a QC Time factor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 T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per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Availability Schedule (toggle vacation / sick d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del: Efficiency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17220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del: Availability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9480" y="1447920"/>
          <a:ext cx="7848720" cy="51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848720" cy="51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del: Total Capacity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28600" y="1523880"/>
          <a:ext cx="861048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61048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ent - Product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2286000"/>
          <a:ext cx="822960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0"/>
                    <a:ext cx="82296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r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0 Variables in Model; Traditional Solver has a 200 variable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line systems has additional large-scale solvers that do not limit variables or constra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0" y="2514600"/>
          <a:ext cx="4191120" cy="32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514600"/>
                    <a:ext cx="4191120" cy="32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8:22:39Z</dcterms:created>
  <dc:creator>bm</dc:creator>
  <dc:description/>
  <dc:language>en-US</dc:language>
  <cp:lastModifiedBy>bm</cp:lastModifiedBy>
  <dcterms:modified xsi:type="dcterms:W3CDTF">2005-12-12T16:39:13Z</dcterms:modified>
  <cp:revision>6</cp:revision>
  <dc:subject/>
  <dc:title>Managing an Outsourced Team</dc:title>
</cp:coreProperties>
</file>